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16AB-EFE1-49A1-AE9F-E1C97DB6E96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56F6-DE4F-4316-B85A-0914B1A7F93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A8E2-F8D9-4E5E-A6B7-4C7601BAFC3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072F-704A-4F57-BE98-D4486D60ADA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1F5A-B8DC-4FB6-BA2E-E92E6515597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93BE-AD5A-43E8-B5C0-9B3E1202818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20B4-FE5C-42FB-920F-348AEB2EFC1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8420-38CA-434A-8081-D5DB42F6AEC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7D24-F907-4E56-8B9C-3B4F3714F52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1D61-47AD-440D-B29C-B458B422A53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C5D7-68CE-4634-AE41-80ACA8C076A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6CD6-60EE-49AF-B6C7-68C39795FFC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E022-64AA-4357-982E-2F582A3E60D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CAAE-8D69-4913-9BAE-767DDF160B6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A24D-AE31-43B6-8DC9-F7B97830F80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AB22-A2CF-4260-9C7C-44C55733384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904B-C449-483F-8E42-26CD255D759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0194-6D63-41E5-A6BC-5C030918AAA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6A13-A618-4EF8-B71F-4A592E56543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41A9-7534-44D2-9CFE-68CF12120ED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FA34-EA66-445B-805C-B7948547E5F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02B2-986E-4BBF-8510-5718529C9A4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E843-E1B4-46B8-B081-EAE448CEE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ECD3-C525-4066-B03F-F2FEE237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5F19-49D1-4507-A8CD-4A83666B7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610A-8F66-48A2-961A-3DE46414C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6F4C-4229-4440-8895-876FA6DE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903C-F4F1-430E-BCB6-CFACBA30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1C49-A33B-45B9-959A-08B8374A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FF18-9708-42A2-B166-2363B972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F05C-B107-4D47-993C-CB02231D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7809-F4EA-46D2-B0D4-892CDA55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A69A-4317-4BA3-9F91-4AAE6812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D635-823F-4972-8400-439BFF89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5453-E998-4F5B-8696-430BA4235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is.rit.edu/mcsl/faq/eye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chroniccare.com/taste.gif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ic-d.com/curriculum/lightandcolor/refraction.html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990720" y="380880"/>
            <a:ext cx="70866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9999ff"/>
                    </a:gs>
                    <a:gs pos="100000">
                      <a:srgbClr val="3333cc"/>
                    </a:gs>
                  </a:gsLst>
                  <a:lin ang="8100000"/>
                </a:gradFill>
                <a:latin typeface="Comic Sans MS"/>
              </a:rPr>
              <a:t>          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9999ff"/>
                  </a:gs>
                  <a:gs pos="100000">
                    <a:srgbClr val="3333cc"/>
                  </a:gs>
                </a:gsLst>
                <a:lin ang="8100000"/>
              </a:gradFill>
              <a:latin typeface="Comic Sans MS"/>
              <a:ea typeface="Comic Sans MS"/>
            </a:endParaRPr>
          </a:p>
        </p:txBody>
      </p:sp>
      <p:pic>
        <p:nvPicPr>
          <p:cNvPr id="49" name="Picture 3" descr="A:\ear.jpg"/>
          <p:cNvPicPr/>
          <p:nvPr/>
        </p:nvPicPr>
        <p:blipFill>
          <a:blip r:embed="rId1"/>
          <a:stretch/>
        </p:blipFill>
        <p:spPr>
          <a:xfrm>
            <a:off x="5943600" y="5105520"/>
            <a:ext cx="2408400" cy="1569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A:\nose.jpg"/>
          <p:cNvPicPr/>
          <p:nvPr/>
        </p:nvPicPr>
        <p:blipFill>
          <a:blip r:embed="rId2"/>
          <a:stretch/>
        </p:blipFill>
        <p:spPr>
          <a:xfrm>
            <a:off x="6781680" y="1981080"/>
            <a:ext cx="1793880" cy="2590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A:\skin.gif"/>
          <p:cNvPicPr/>
          <p:nvPr/>
        </p:nvPicPr>
        <p:blipFill>
          <a:blip r:embed="rId3"/>
          <a:stretch/>
        </p:blipFill>
        <p:spPr>
          <a:xfrm>
            <a:off x="380880" y="1981080"/>
            <a:ext cx="1862280" cy="2133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A:\tongue.jpg"/>
          <p:cNvPicPr/>
          <p:nvPr/>
        </p:nvPicPr>
        <p:blipFill>
          <a:blip r:embed="rId4"/>
          <a:stretch/>
        </p:blipFill>
        <p:spPr>
          <a:xfrm>
            <a:off x="3581280" y="4038480"/>
            <a:ext cx="1787760" cy="2173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A:\eye.gif"/>
          <p:cNvPicPr/>
          <p:nvPr/>
        </p:nvPicPr>
        <p:blipFill>
          <a:blip r:embed="rId5"/>
          <a:stretch/>
        </p:blipFill>
        <p:spPr>
          <a:xfrm>
            <a:off x="609480" y="5181480"/>
            <a:ext cx="2286000" cy="1430280"/>
          </a:xfrm>
          <a:prstGeom prst="rect">
            <a:avLst/>
          </a:prstGeom>
          <a:ln w="0">
            <a:noFill/>
          </a:ln>
        </p:spPr>
      </p:pic>
      <p:pic>
        <p:nvPicPr>
          <p:cNvPr id="54" name="TextBox 1" descr=""/>
          <p:cNvPicPr/>
          <p:nvPr/>
        </p:nvPicPr>
        <p:blipFill>
          <a:blip r:embed="rId6"/>
          <a:stretch/>
        </p:blipFill>
        <p:spPr>
          <a:xfrm>
            <a:off x="2425680" y="-42840"/>
            <a:ext cx="5595840" cy="3981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Documents and Settings\mewoldsen\My Documents\Physics\PowerPoint\New Folder\eye.jp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0"/>
            <a:ext cx="61246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Box 1"/>
          <p:cNvSpPr/>
          <p:nvPr/>
        </p:nvSpPr>
        <p:spPr>
          <a:xfrm>
            <a:off x="6858000" y="2438280"/>
            <a:ext cx="914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ind Spo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5715000" y="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scles for focus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7" name="Straight Arrow Connector 4"/>
          <p:cNvCxnSpPr/>
          <p:nvPr/>
        </p:nvCxnSpPr>
        <p:spPr>
          <a:xfrm flipH="1">
            <a:off x="5104800" y="456840"/>
            <a:ext cx="610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" name="Straight Arrow Connector 6"/>
          <p:cNvCxnSpPr/>
          <p:nvPr/>
        </p:nvCxnSpPr>
        <p:spPr>
          <a:xfrm flipH="1">
            <a:off x="5486040" y="609480"/>
            <a:ext cx="381600" cy="5563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762120" y="1981080"/>
            <a:ext cx="777240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156b13"/>
                    </a:gs>
                    <a:gs pos="100000">
                      <a:srgbClr val="156b13"/>
                    </a:gs>
                  </a:gsLst>
                  <a:lin ang="8100000"/>
                </a:gradFill>
                <a:latin typeface="Comic Sans MS"/>
              </a:rPr>
              <a:t>Hearing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156b13"/>
                  </a:gs>
                  <a:gs pos="100000">
                    <a:srgbClr val="156b13"/>
                  </a:gs>
                </a:gsLst>
                <a:lin ang="8100000"/>
              </a:gradFill>
              <a:latin typeface="Comic Sans MS"/>
              <a:ea typeface="Comic Sans M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30492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en a sound is made, the air around the sound vibrat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14400" y="32767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earing starts when some of the sound waves go into the ea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" name="Picture 5" descr="A:\ring_ear.jpg"/>
          <p:cNvPicPr/>
          <p:nvPr/>
        </p:nvPicPr>
        <p:blipFill>
          <a:blip r:embed="rId1"/>
          <a:stretch/>
        </p:blipFill>
        <p:spPr>
          <a:xfrm>
            <a:off x="2819520" y="4800600"/>
            <a:ext cx="3863880" cy="1725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cc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2"/>
          <p:cNvSpPr txBox="1"/>
          <p:nvPr/>
        </p:nvSpPr>
        <p:spPr>
          <a:xfrm>
            <a:off x="990720" y="304920"/>
            <a:ext cx="7391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99ff"/>
                    </a:gs>
                  </a:gsLst>
                  <a:lin ang="8100000"/>
                </a:gradFill>
                <a:latin typeface="Comic Sans MS"/>
              </a:rPr>
              <a:t>Parts of the Ear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99ff"/>
                  </a:gs>
                </a:gsLst>
                <a:lin ang="8100000"/>
              </a:gradFill>
              <a:latin typeface="Comic Sans MS"/>
              <a:ea typeface="Comic Sans MS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457200" y="13716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re are nine main parts of the ea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685800" y="22096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.  Pinn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685800" y="30481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.  Ear cana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685800" y="38862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.  Ear dru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4952880" y="22096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5.  Anvi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4952880" y="30481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6.  Stirru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4952880" y="38862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7.  Cochle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685800" y="47242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.  Hamm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4952880" y="47242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8.  Eustachian tub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2438280" y="54864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9.  Auditory nerv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304920" y="152280"/>
            <a:ext cx="8686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ff99"/>
                    </a:gs>
                    <a:gs pos="50000">
                      <a:srgbClr val="00cc99"/>
                    </a:gs>
                    <a:gs pos="100000">
                      <a:srgbClr val="ccff99"/>
                    </a:gs>
                  </a:gsLst>
                  <a:lin ang="13500000"/>
                </a:gradFill>
                <a:latin typeface="Comic Sans MS"/>
              </a:rPr>
              <a:t>                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ff99"/>
                  </a:gs>
                  <a:gs pos="50000">
                    <a:srgbClr val="00cc99"/>
                  </a:gs>
                  <a:gs pos="100000">
                    <a:srgbClr val="ccff99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0" y="2286000"/>
            <a:ext cx="9144000" cy="119124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3600" spc="-1" strike="noStrike">
                <a:solidFill>
                  <a:srgbClr val="009900"/>
                </a:solidFill>
                <a:latin typeface="Comic Sans MS"/>
              </a:rPr>
              <a:t>ear cana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the tube between the outside of the ear and the ear drum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0" y="3581280"/>
            <a:ext cx="9144000" cy="119124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3600" spc="-1" strike="noStrike">
                <a:solidFill>
                  <a:srgbClr val="009900"/>
                </a:solidFill>
                <a:latin typeface="Comic Sans MS"/>
              </a:rPr>
              <a:t>ear drum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in the middle ear.  It vibrates when sound waves hit it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7" name="Picture 5" descr="A:\ear.jpg"/>
          <p:cNvPicPr/>
          <p:nvPr/>
        </p:nvPicPr>
        <p:blipFill>
          <a:blip r:embed="rId1"/>
          <a:stretch/>
        </p:blipFill>
        <p:spPr>
          <a:xfrm>
            <a:off x="2971800" y="4821120"/>
            <a:ext cx="3124080" cy="20368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0" y="990720"/>
            <a:ext cx="9144000" cy="119124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3600" spc="-1" strike="noStrike">
                <a:solidFill>
                  <a:srgbClr val="009900"/>
                </a:solidFill>
                <a:latin typeface="Comic Sans MS"/>
              </a:rPr>
              <a:t>pinna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the part of the ear               that you can se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ccccff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304920" y="304920"/>
            <a:ext cx="8534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Comic Sans MS"/>
              </a:rPr>
              <a:t>Parts of the Ear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Comic Sans MS"/>
              <a:ea typeface="Comic Sans MS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2193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three smallest bones in the body, the hammer, the anvil, and the stirrup,            are in the middle ea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04920" y="2971800"/>
            <a:ext cx="8610480" cy="106884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hamm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gets the vibrations from the eardrum, then sends them to the anvi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52280" y="4419720"/>
            <a:ext cx="8991720" cy="58140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anvi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asses the vibrations to the stirrup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533520" y="5257800"/>
            <a:ext cx="8381880" cy="106884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stirru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asses the vibrations                   to the inner ea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0f0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1026"/>
          <p:cNvSpPr txBox="1"/>
          <p:nvPr/>
        </p:nvSpPr>
        <p:spPr>
          <a:xfrm>
            <a:off x="380880" y="228600"/>
            <a:ext cx="8458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66ccff"/>
                    </a:gs>
                    <a:gs pos="100000">
                      <a:srgbClr val="3333cc"/>
                    </a:gs>
                  </a:gsLst>
                  <a:lin ang="13500000"/>
                </a:gradFill>
                <a:latin typeface="Comic Sans MS"/>
              </a:rPr>
              <a:t>                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66ccff"/>
                  </a:gs>
                  <a:gs pos="100000">
                    <a:srgbClr val="3333cc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  <p:sp>
        <p:nvSpPr>
          <p:cNvPr id="115" name="Text Box 1027"/>
          <p:cNvSpPr/>
          <p:nvPr/>
        </p:nvSpPr>
        <p:spPr>
          <a:xfrm>
            <a:off x="228600" y="19051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The inner ear is made of                                the cochlea and liquid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 Box 1028"/>
          <p:cNvSpPr/>
          <p:nvPr/>
        </p:nvSpPr>
        <p:spPr>
          <a:xfrm>
            <a:off x="380880" y="3276720"/>
            <a:ext cx="8458200" cy="106884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cochle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in the inner ear.  The cochlea looks like a shel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 Box 1029"/>
          <p:cNvSpPr/>
          <p:nvPr/>
        </p:nvSpPr>
        <p:spPr>
          <a:xfrm>
            <a:off x="380880" y="609480"/>
            <a:ext cx="8458200" cy="106884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ustachian tub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ontrols the amount of pressure in the ea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 Box 1030"/>
          <p:cNvSpPr/>
          <p:nvPr/>
        </p:nvSpPr>
        <p:spPr>
          <a:xfrm>
            <a:off x="380880" y="4456080"/>
            <a:ext cx="845820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auditory nerv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arries the           hearing information to the brain and       the brain tells us what we hear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228600" y="152280"/>
            <a:ext cx="8686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13500000"/>
                </a:gradFill>
                <a:latin typeface="Comic Sans MS"/>
              </a:rPr>
              <a:t>The Ear and Balance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609480" y="12952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The ear works with the brain to control your balanc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838080" y="2590920"/>
            <a:ext cx="769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ll of your movements are controlled by balance and muscl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914400" y="38098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liquid in your inner ear is responsible for your bala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52280" y="5029200"/>
            <a:ext cx="899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liquid in your ear moves when we move.  The liquid movement sends information to the brain to tell it how we are mov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"/>
          <p:cNvPicPr/>
          <p:nvPr/>
        </p:nvPicPr>
        <p:blipFill>
          <a:blip r:embed="rId1"/>
          <a:stretch/>
        </p:blipFill>
        <p:spPr>
          <a:xfrm>
            <a:off x="-4680" y="304920"/>
            <a:ext cx="9264600" cy="63244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"/>
          <p:cNvSpPr/>
          <p:nvPr/>
        </p:nvSpPr>
        <p:spPr>
          <a:xfrm>
            <a:off x="6248520" y="1219320"/>
            <a:ext cx="1295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2"/>
          <p:cNvSpPr txBox="1"/>
          <p:nvPr/>
        </p:nvSpPr>
        <p:spPr>
          <a:xfrm>
            <a:off x="457200" y="1523880"/>
            <a:ext cx="51055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8b049"/>
                    </a:gs>
                    <a:gs pos="100000">
                      <a:srgbClr val="f8b049"/>
                    </a:gs>
                  </a:gsLst>
                  <a:lin ang="13500000"/>
                </a:gradFill>
                <a:latin typeface="Comic Sans MS"/>
              </a:rPr>
              <a:t>Touch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8b049"/>
                  </a:gs>
                  <a:gs pos="100000">
                    <a:srgbClr val="f8b049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5228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sense of touch is located in the ski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143000" y="4343400"/>
            <a:ext cx="6858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219320" y="373392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nerves in the skin allow us to feel </a:t>
            </a: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textur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pressure, heat, cold, and pai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990720" y="57150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exture is how something feel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Picture 7" descr="A:\skin.gif"/>
          <p:cNvPicPr/>
          <p:nvPr/>
        </p:nvPicPr>
        <p:blipFill>
          <a:blip r:embed="rId1"/>
          <a:stretch/>
        </p:blipFill>
        <p:spPr>
          <a:xfrm>
            <a:off x="6324480" y="1447920"/>
            <a:ext cx="1675080" cy="1917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2"/>
          <p:cNvSpPr txBox="1"/>
          <p:nvPr/>
        </p:nvSpPr>
        <p:spPr>
          <a:xfrm>
            <a:off x="685800" y="1447920"/>
            <a:ext cx="7620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ffcc"/>
                    </a:gs>
                    <a:gs pos="50000">
                      <a:srgbClr val="99ff99"/>
                    </a:gs>
                    <a:gs pos="100000">
                      <a:srgbClr val="ccffcc"/>
                    </a:gs>
                  </a:gsLst>
                  <a:lin ang="8100000"/>
                </a:gradFill>
                <a:latin typeface="Comic Sans MS"/>
              </a:rPr>
              <a:t>Smell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ffcc"/>
                  </a:gs>
                  <a:gs pos="50000">
                    <a:srgbClr val="99ff99"/>
                  </a:gs>
                  <a:gs pos="100000">
                    <a:srgbClr val="ccffcc"/>
                  </a:gs>
                </a:gsLst>
                <a:lin ang="8100000"/>
              </a:gradFill>
              <a:latin typeface="Comic Sans MS"/>
              <a:ea typeface="Comic Sans MS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457200" y="4572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nose controls your sense of smell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838080" y="34290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nose is able to smell 80 different kinds of smell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5" name="Picture 5" descr="A:\nose.jpg"/>
          <p:cNvPicPr/>
          <p:nvPr/>
        </p:nvPicPr>
        <p:blipFill>
          <a:blip r:embed="rId1"/>
          <a:stretch/>
        </p:blipFill>
        <p:spPr>
          <a:xfrm>
            <a:off x="3886200" y="4648320"/>
            <a:ext cx="153036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2"/>
          <p:cNvSpPr txBox="1"/>
          <p:nvPr/>
        </p:nvSpPr>
        <p:spPr>
          <a:xfrm>
            <a:off x="304920" y="457200"/>
            <a:ext cx="5715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Comic Sans MS"/>
              </a:rPr>
              <a:t>Sense Organ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334120" y="1600200"/>
            <a:ext cx="3504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Sense organ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carry messages about the environment to the central nervous system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Picture 4" descr="A:\eye.gif"/>
          <p:cNvPicPr/>
          <p:nvPr/>
        </p:nvPicPr>
        <p:blipFill>
          <a:blip r:embed="rId3"/>
          <a:stretch/>
        </p:blipFill>
        <p:spPr>
          <a:xfrm>
            <a:off x="228600" y="2133720"/>
            <a:ext cx="2209680" cy="1382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A:\skin.gif"/>
          <p:cNvPicPr/>
          <p:nvPr/>
        </p:nvPicPr>
        <p:blipFill>
          <a:blip r:embed="rId4"/>
          <a:stretch/>
        </p:blipFill>
        <p:spPr>
          <a:xfrm>
            <a:off x="152280" y="4495680"/>
            <a:ext cx="1530360" cy="1752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A:\tongue.jpg"/>
          <p:cNvPicPr/>
          <p:nvPr/>
        </p:nvPicPr>
        <p:blipFill>
          <a:blip r:embed="rId5"/>
          <a:stretch/>
        </p:blipFill>
        <p:spPr>
          <a:xfrm>
            <a:off x="3962520" y="4495680"/>
            <a:ext cx="1474560" cy="1792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A:\ear.jpg"/>
          <p:cNvPicPr/>
          <p:nvPr/>
        </p:nvPicPr>
        <p:blipFill>
          <a:blip r:embed="rId6"/>
          <a:stretch/>
        </p:blipFill>
        <p:spPr>
          <a:xfrm>
            <a:off x="2666880" y="1981080"/>
            <a:ext cx="2408400" cy="1570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A:\nose.jpg"/>
          <p:cNvPicPr/>
          <p:nvPr/>
        </p:nvPicPr>
        <p:blipFill>
          <a:blip r:embed="rId7"/>
          <a:stretch/>
        </p:blipFill>
        <p:spPr>
          <a:xfrm>
            <a:off x="1905120" y="3886200"/>
            <a:ext cx="1793880" cy="2590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533520" y="3049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our sense of taste comes from the taste buds in the tongu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685800" y="42670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Comic Sans MS"/>
              </a:rPr>
              <a:t>Taste bud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e the parts on the tongue that allow us to tast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066680" y="563868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our kinds of taste buds are sweet, sour, bitter, and salt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WordArt 6"/>
          <p:cNvSpPr txBox="1"/>
          <p:nvPr/>
        </p:nvSpPr>
        <p:spPr>
          <a:xfrm>
            <a:off x="1295280" y="2209680"/>
            <a:ext cx="6629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b2b2b2"/>
                    </a:gs>
                    <a:gs pos="50000">
                      <a:srgbClr val="00cc99"/>
                    </a:gs>
                    <a:gs pos="100000">
                      <a:srgbClr val="b2b2b2"/>
                    </a:gs>
                  </a:gsLst>
                  <a:lin ang="8100000"/>
                </a:gradFill>
                <a:latin typeface="Comic Sans MS"/>
              </a:rPr>
              <a:t>     </a:t>
            </a:r>
            <a:endParaRPr b="0" lang="en-US" sz="3600" spc="1" strike="noStrike">
              <a:ln w="936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b2b2b2"/>
                  </a:gs>
                  <a:gs pos="50000">
                    <a:srgbClr val="00cc99"/>
                  </a:gs>
                  <a:gs pos="100000">
                    <a:srgbClr val="b2b2b2"/>
                  </a:gs>
                </a:gsLst>
                <a:lin ang="8100000"/>
              </a:gradFill>
              <a:latin typeface="Comic Sans MS"/>
              <a:ea typeface="Comic Sans MS"/>
            </a:endParaRPr>
          </a:p>
        </p:txBody>
      </p:sp>
    </p:spTree>
  </p:cSld>
  <p:transition spd="med">
    <p:zoom dir="out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http://www.chroniccare.com/taste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0"/>
            <a:ext cx="7391520" cy="678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cccc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2"/>
          <p:cNvSpPr txBox="1"/>
          <p:nvPr/>
        </p:nvSpPr>
        <p:spPr>
          <a:xfrm>
            <a:off x="533520" y="380880"/>
            <a:ext cx="8153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ccccff"/>
                    </a:gs>
                  </a:gsLst>
                  <a:lin ang="5400000"/>
                </a:gradFill>
                <a:latin typeface="Comic Sans MS"/>
              </a:rPr>
              <a:t>Flavor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ccccff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28600" y="23623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astes and smells work                together to make flavor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143000" y="411480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Flavor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re the tastes             of food and drink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2"/>
          <p:cNvSpPr txBox="1"/>
          <p:nvPr/>
        </p:nvSpPr>
        <p:spPr>
          <a:xfrm>
            <a:off x="2057400" y="304920"/>
            <a:ext cx="51055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Comic Sans MS"/>
              </a:rPr>
              <a:t>Sense Organs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685800" y="19051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eyes, ears, nose, tongue, and skin are examples of sense organ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838080" y="342900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sense organs gather information (light, sound, heat, and pressure) from the environment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2"/>
          <p:cNvSpPr txBox="1"/>
          <p:nvPr/>
        </p:nvSpPr>
        <p:spPr>
          <a:xfrm>
            <a:off x="609480" y="3808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8b049"/>
                    </a:gs>
                    <a:gs pos="100000">
                      <a:srgbClr val="f8b049"/>
                    </a:gs>
                  </a:gsLst>
                  <a:lin ang="8100000"/>
                </a:gradFill>
                <a:latin typeface="Comic Sans MS"/>
              </a:rPr>
              <a:t>Environment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8b049"/>
                  </a:gs>
                  <a:gs pos="100000">
                    <a:srgbClr val="f8b049"/>
                  </a:gs>
                </a:gsLst>
                <a:lin ang="8100000"/>
              </a:gradFill>
              <a:latin typeface="Comic Sans MS"/>
              <a:ea typeface="Comic Sans MS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990720" y="205740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3600" spc="-1" strike="noStrike">
                <a:solidFill>
                  <a:srgbClr val="cc0066"/>
                </a:solidFill>
                <a:latin typeface="Comic Sans MS"/>
              </a:rPr>
              <a:t>environmen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everything outside the body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143000" y="3733920"/>
            <a:ext cx="716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sense organs gather information from outside the body, then send the messages to the brai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2"/>
          <p:cNvSpPr txBox="1"/>
          <p:nvPr/>
        </p:nvSpPr>
        <p:spPr>
          <a:xfrm>
            <a:off x="304920" y="2057400"/>
            <a:ext cx="64767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bfa"/>
                    </a:gs>
                    <a:gs pos="100000">
                      <a:srgbClr val="ffebfa"/>
                    </a:gs>
                  </a:gsLst>
                  <a:lin ang="13500000"/>
                </a:gradFill>
                <a:latin typeface="Comic Sans MS"/>
              </a:rPr>
              <a:t>Visi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bfa"/>
                  </a:gs>
                  <a:gs pos="100000">
                    <a:srgbClr val="ffebfa"/>
                  </a:gs>
                </a:gsLst>
                <a:lin ang="13500000"/>
              </a:gradFill>
              <a:latin typeface="Comic Sans MS"/>
              <a:ea typeface="Comic Sans M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85800" y="3808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Vision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is your ability to se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0" y="4572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Vision involves the eye and the brai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1" name="Picture 6" descr="A:\eye.gif"/>
          <p:cNvPicPr/>
          <p:nvPr/>
        </p:nvPicPr>
        <p:blipFill>
          <a:blip r:embed="rId1"/>
          <a:stretch/>
        </p:blipFill>
        <p:spPr>
          <a:xfrm>
            <a:off x="7010280" y="2438280"/>
            <a:ext cx="1981440" cy="12398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://www.mic-d.com/curriculum/lightandcolor/images/refractionfigure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8120" y="0"/>
            <a:ext cx="8499600" cy="68454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6324480" y="5162400"/>
            <a:ext cx="2095560" cy="87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5200"/>
            <a:ext cx="9144000" cy="15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ear-Sightedness (Myopia 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3205440" cy="24703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380880" y="3657600"/>
            <a:ext cx="8763120" cy="21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with near-sightedness cannot see clearly at distance. The lens doesn’t focus the image on the retina. It is just short of the retin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Donut 1"/>
          <p:cNvSpPr/>
          <p:nvPr/>
        </p:nvSpPr>
        <p:spPr>
          <a:xfrm>
            <a:off x="3352680" y="2209680"/>
            <a:ext cx="685800" cy="685800"/>
          </a:xfrm>
          <a:custGeom>
            <a:avLst/>
            <a:gdLst/>
            <a:ahLst/>
            <a:rect l="l" t="t" r="r" b="b"/>
            <a:pathLst>
              <a:path w="685800" h="685800">
                <a:moveTo>
                  <a:pt x="0" y="342900"/>
                </a:moveTo>
                <a:cubicBezTo>
                  <a:pt x="0" y="153522"/>
                  <a:pt x="153522" y="0"/>
                  <a:pt x="342900" y="0"/>
                </a:cubicBezTo>
                <a:cubicBezTo>
                  <a:pt x="532278" y="0"/>
                  <a:pt x="685800" y="153522"/>
                  <a:pt x="685800" y="342900"/>
                </a:cubicBezTo>
                <a:cubicBezTo>
                  <a:pt x="685800" y="532278"/>
                  <a:pt x="532278" y="685800"/>
                  <a:pt x="342900" y="685800"/>
                </a:cubicBezTo>
                <a:cubicBezTo>
                  <a:pt x="153522" y="685800"/>
                  <a:pt x="0" y="532278"/>
                  <a:pt x="0" y="342900"/>
                </a:cubicBezTo>
                <a:close/>
                <a:moveTo>
                  <a:pt x="69849" y="342900"/>
                </a:moveTo>
                <a:cubicBezTo>
                  <a:pt x="69849" y="493702"/>
                  <a:pt x="192098" y="615951"/>
                  <a:pt x="342900" y="615951"/>
                </a:cubicBezTo>
                <a:cubicBezTo>
                  <a:pt x="493702" y="615951"/>
                  <a:pt x="615951" y="493702"/>
                  <a:pt x="615951" y="342900"/>
                </a:cubicBezTo>
                <a:cubicBezTo>
                  <a:pt x="615951" y="192098"/>
                  <a:pt x="493702" y="69849"/>
                  <a:pt x="342900" y="69849"/>
                </a:cubicBezTo>
                <a:cubicBezTo>
                  <a:pt x="192098" y="69849"/>
                  <a:pt x="69849" y="192098"/>
                  <a:pt x="69849" y="342900"/>
                </a:cubicBezTo>
                <a:close/>
              </a:path>
            </a:pathLst>
          </a:custGeom>
          <a:gradFill rotWithShape="0">
            <a:gsLst>
              <a:gs pos="0">
                <a:srgbClr val="85ffdb"/>
              </a:gs>
              <a:gs pos="100000">
                <a:srgbClr val="00eba8"/>
              </a:gs>
            </a:gsLst>
            <a:lin ang="5400000"/>
          </a:gradFill>
          <a:ln w="3240">
            <a:solidFill>
              <a:srgbClr val="00cc9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0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arsightedness(Hyperopia 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28600" y="4083120"/>
            <a:ext cx="8686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with far-sightedness cannot see clearly up close. The lens doesn’t focus the image on the retina. The image is too spread apart when it hits the retin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715000" cy="2236680"/>
          </a:xfrm>
          <a:prstGeom prst="rect">
            <a:avLst/>
          </a:prstGeom>
          <a:ln w="0">
            <a:noFill/>
          </a:ln>
        </p:spPr>
      </p:pic>
      <p:sp>
        <p:nvSpPr>
          <p:cNvPr id="81" name="Donut 4"/>
          <p:cNvSpPr/>
          <p:nvPr/>
        </p:nvSpPr>
        <p:spPr>
          <a:xfrm>
            <a:off x="1447920" y="2133720"/>
            <a:ext cx="685800" cy="685800"/>
          </a:xfrm>
          <a:custGeom>
            <a:avLst/>
            <a:gdLst/>
            <a:ahLst/>
            <a:rect l="l" t="t" r="r" b="b"/>
            <a:pathLst>
              <a:path w="685800" h="685800">
                <a:moveTo>
                  <a:pt x="0" y="342900"/>
                </a:moveTo>
                <a:cubicBezTo>
                  <a:pt x="0" y="153522"/>
                  <a:pt x="153522" y="0"/>
                  <a:pt x="342900" y="0"/>
                </a:cubicBezTo>
                <a:cubicBezTo>
                  <a:pt x="532278" y="0"/>
                  <a:pt x="685800" y="153522"/>
                  <a:pt x="685800" y="342900"/>
                </a:cubicBezTo>
                <a:cubicBezTo>
                  <a:pt x="685800" y="532278"/>
                  <a:pt x="532278" y="685800"/>
                  <a:pt x="342900" y="685800"/>
                </a:cubicBezTo>
                <a:cubicBezTo>
                  <a:pt x="153522" y="685800"/>
                  <a:pt x="0" y="532278"/>
                  <a:pt x="0" y="342900"/>
                </a:cubicBezTo>
                <a:close/>
                <a:moveTo>
                  <a:pt x="69849" y="342900"/>
                </a:moveTo>
                <a:cubicBezTo>
                  <a:pt x="69849" y="493702"/>
                  <a:pt x="192098" y="615951"/>
                  <a:pt x="342900" y="615951"/>
                </a:cubicBezTo>
                <a:cubicBezTo>
                  <a:pt x="493702" y="615951"/>
                  <a:pt x="615951" y="493702"/>
                  <a:pt x="615951" y="342900"/>
                </a:cubicBezTo>
                <a:cubicBezTo>
                  <a:pt x="615951" y="192098"/>
                  <a:pt x="493702" y="69849"/>
                  <a:pt x="342900" y="69849"/>
                </a:cubicBezTo>
                <a:cubicBezTo>
                  <a:pt x="192098" y="69849"/>
                  <a:pt x="69849" y="192098"/>
                  <a:pt x="69849" y="342900"/>
                </a:cubicBezTo>
                <a:close/>
              </a:path>
            </a:pathLst>
          </a:custGeom>
          <a:gradFill rotWithShape="0">
            <a:gsLst>
              <a:gs pos="0">
                <a:srgbClr val="85ffdb"/>
              </a:gs>
              <a:gs pos="100000">
                <a:srgbClr val="00eba8"/>
              </a:gs>
            </a:gsLst>
            <a:lin ang="5400000"/>
          </a:gradFill>
          <a:ln w="3240">
            <a:solidFill>
              <a:srgbClr val="00cc9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Parts of the Ey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4520" y="1522080"/>
            <a:ext cx="850752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tectors on the Ret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intensity and motion sen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r sen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blind spo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for the eye is cause by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optic nerv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8T15:23:15Z</dcterms:created>
  <dc:creator> </dc:creator>
  <dc:description/>
  <cp:keywords/>
  <dc:language>en-US</dc:language>
  <cp:lastModifiedBy>St. Aloysius</cp:lastModifiedBy>
  <cp:lastPrinted>2014-05-20T16:22:21Z</cp:lastPrinted>
  <dcterms:modified xsi:type="dcterms:W3CDTF">2014-06-02T15:39:45Z</dcterms:modified>
  <cp:revision>74</cp:revision>
  <dc:subject/>
  <dc:title>PowerPoint Presentation</dc:title>
</cp:coreProperties>
</file>